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761-EC41-4314-A6BD-013070FB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7440" y="37951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152-7400-4FE5-A430-AD305950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900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E41-15EE-4E7F-8438-5C6AEE61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824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40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744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824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40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446-276B-489A-92B6-59CCC2CE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4D60-80AB-4A41-8BAB-28F9AF05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FFD5-2C26-4D1F-A25A-7C00D3ED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A9AC-8438-4F93-AF4B-CAB9E6AC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CA87-1CFF-4DD4-B1F9-9C3A66D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11B6-09F2-4325-92BB-2FB2353F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320" y="99000"/>
            <a:ext cx="69087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BBC0-882E-41A4-AF7B-69266164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3076-8AA7-4186-A779-7DD1912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219-2D46-4B46-98F2-3E30C8EE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900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2ADB-9241-4C88-8EA0-4E63CA6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6FDD-AC51-4ADE-B4C8-66CAA97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7440" y="37951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2A81-E991-4F43-9F78-5483962C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900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701-6F78-42B8-ACBB-6E6F6068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824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940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744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824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940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6133-0571-4BA2-9ED0-7A33C819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3BC-A96C-453C-AEC1-68206314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05A-03C9-4FC1-801B-CDA603F9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088-2F19-4541-9BF9-B0CF64F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" y="99000"/>
            <a:ext cx="69087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814-39C9-47D0-BCBE-AD8D255A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52E-FE90-424B-B4D5-7660626B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900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0B7-A824-4C83-9575-DE3471B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CF3-F6B7-47D8-B35E-27922AE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slide_master_all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601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2" marL="968400" indent="-168120">
              <a:spcBef>
                <a:spcPts val="601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3" marL="1312920" indent="-1699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4" marL="1657440" indent="-1713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5" marL="1657440" indent="-1713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6" marL="1657440" indent="-1713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93400" y="6605280"/>
            <a:ext cx="84924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33280" y="6606360"/>
            <a:ext cx="690084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524800" y="6604920"/>
            <a:ext cx="35568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5918-9530-43FD-846F-B4615A00AD0A}" type="slidenum"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_master_all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7824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1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93400" y="6605280"/>
            <a:ext cx="84924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133280" y="6606360"/>
            <a:ext cx="690084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24800" y="6604920"/>
            <a:ext cx="35568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39F6-3B9B-4C1D-BD13-E61EC63BD2B8}" type="slidenum"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c1d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9ec1dd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800280" algn="ctr">
              <a:spcBef>
                <a:spcPts val="499"/>
              </a:spcBef>
              <a:buClr>
                <a:srgbClr val="3051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1430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486080" algn="ctr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5" marL="148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6" marL="148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47824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1a4"/>
                </a:solidFill>
                <a:latin typeface="Arial"/>
              </a:rPr>
              <a:t>Embedded Linux Development with Eclipse</a:t>
            </a:r>
            <a:endParaRPr b="1" lang="en-US" sz="32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39720" y="4435200"/>
            <a:ext cx="78091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c1dd"/>
                </a:solidFill>
                <a:latin typeface="Arial"/>
              </a:rPr>
              <a:t>JT Thomas, MontaVista Software</a:t>
            </a:r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4: Debugging an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tup launch configuration (Run | Run)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lect target connection (exported by RSE)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Login to target through shel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tart gdbserver on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pecify gdb remote connection and port in .gdbini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Debug Perspectiv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ebug applica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ing 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MontaVista DevRocket 5.0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dit-Compile-Debug automa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Application Analysi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Memory Usage Analysi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Memory Leak Detection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Performance Profiling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ystem Analysi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Performance Profiling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Trace Visualization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Filesystem Crea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62520" y="3070080"/>
            <a:ext cx="49528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(interesting) Initia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SDP – Device Software Development Projec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Umbrella project focused on improving embedded developmen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RTSC – Realtime System Component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TI led project to support DSPs and 16-bit microcontroller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TCF - Target Communications Framework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One “protocol to rule them all”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Debugging, monitoring, analysis, and test tool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D - Device Debugging 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Extensible Debugger Services Framework for better integration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clipse is quickly becoming the de-facto standard for embedded Linux Integrated Development Environment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DT is mature enough (now) to support cross-compilation and debugging – and to handle larger project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RSE makes target management easy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mbedded focused features and integration is improving all the tim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It’s time to give it a try!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Anyone?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Bueller?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clipse History and Overview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Key Eclipse Projects for embedded 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tep-by-Step to build, deploy, and debug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Working examples using DevRock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Future Eclipse Projects for embedded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Questions &amp; Answer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lipse History and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onated by IBM to open source community in NOV 2001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An open development platform … and a community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Multi-platform GUI “for anything and nothing in particular”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Java plug-in architecture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Governed by Eclipse Public License (EPL)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Initially implemented as a Java integrated development environment (JDT)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clipse foundation formed in JAN 2004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Many language and software development focused plug-ins and environment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Major sub-projects coordinated releases every Jun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lipse has grown up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0160" y="1395360"/>
            <a:ext cx="8745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Eclipse Projects for embed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DT – C/C++ Development Toolki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/C++ source code editor and indexe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Syntax highlighting and object browsing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Build managemen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Binary parsing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Native support for GCC/GDB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RSE – Remote Systems Explorer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onsistent interface across multiple target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Many connection mechanism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Filesystem managemen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Process managemen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Shell  (and terminal) acces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ing and Updating Eclip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clipse.org/download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Updating and finding plug-in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000320" cy="207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3962160" cy="177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42670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1: Setting up a Targ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Install RSE plugi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tup SSH server on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Remote Systems Explorer Perspectiv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reate “SSH Only” RSE connec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integrated shell on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Perform file management tasks on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2352600" cy="2762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67080" y="3581280"/>
            <a:ext cx="26575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2: Building an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C/C++ Perspectiv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reate new Managed Make C++ projec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build setting and preface compiler command line name with architecture nam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i.e. armv6_gcc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Build applica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5688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3: Deploying an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7977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RSE perspectiv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rag-and-drop binary from Local system to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integrated remote shel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Run application from shel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1715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58:17Z</dcterms:created>
  <dc:creator>JT Thomas</dc:creator>
  <dc:description/>
  <dc:language>en-US</dc:language>
  <cp:lastModifiedBy>PLanning</cp:lastModifiedBy>
  <dcterms:modified xsi:type="dcterms:W3CDTF">2008-05-01T20:39:35Z</dcterms:modified>
  <cp:revision>10</cp:revision>
  <dc:subject/>
  <dc:title>Embedded Linux Development with Eclipse</dc:title>
</cp:coreProperties>
</file>